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F1C-F5FE-4F51-B1BC-EA7EC9B7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880" y="469368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B87-CC52-4DFB-B460-92A48C9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556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165-3667-4D1C-AF89-A5B3A8D8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452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616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288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452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1616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67D-6DCB-4BE5-B816-FB893FDE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9EC-4EEF-4CC4-AC62-4F558B28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4C7-32A7-4E5D-B9ED-8C314AD9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C9D-ABAE-48FF-82F6-BC4E9B99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629-8784-48DA-B210-0925B032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0" y="228240"/>
            <a:ext cx="68547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35D-5865-4D7A-BE12-5C7FE9D3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33D-81C0-4C21-8388-7CBCF08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556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039-0A02-49E1-8B3F-E96720CA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61E-5A59-4E81-8BDE-84100D45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 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10669-0937-40F0-85F2-9227CB3AF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8000" y="157320"/>
            <a:ext cx="2697120" cy="66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christian.schaller@collabora.co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66840"/>
            <a:ext cx="959796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:</a:t>
            </a:r>
            <a:br>
              <a:rPr sz="4400"/>
            </a:b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What is Gstreamer,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What is new and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simple video editing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9520" y="3657240"/>
            <a:ext cx="906948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itstream Vera Serif"/>
              </a:rPr>
              <a:t>Christian F.K. Schaller (christian.schaller@collabora.co.uk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Intelligent Download Buffer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Visual feedback of download progre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Intelligent pausing if network can not keep u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Quicktime/YouTube sty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n-disk bufferin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Collabora Multimedia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3" name=""/>
          <p:cNvSpPr/>
          <p:nvPr/>
        </p:nvSpPr>
        <p:spPr>
          <a:xfrm>
            <a:off x="301680" y="12524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6840" y="2528640"/>
            <a:ext cx="894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Unlike a lot of open source projects, Gstreamer has well established professional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orld Leading experts on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43400" y="5257800"/>
            <a:ext cx="55324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OpenMax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reamer Integration with OpenMax I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Bellagio/ST 100% supporte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... easy path to native GStreamer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67200" y="5869080"/>
            <a:ext cx="4962600" cy="14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OpenGL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-plugins-gl modu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penGL based video output (xvimagesink replacement)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penGL ES 2.x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Enable video processing on the GPU in a GStreamer pipeli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Any OpenGL video filt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99200" y="5715000"/>
            <a:ext cx="3630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DVB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DVB-T, DVB-S, DVB-C, ATSC tested and confirmed workin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Deinterlacing, MHEG, scanning still to be do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29400" y="6172200"/>
            <a:ext cx="33019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Browser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HTML5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eb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Firefo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73360" y="2725560"/>
            <a:ext cx="581184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685656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Improved Platform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Linux, Solaris, Windows and MacOS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S60 support (Ongoing)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Android support (Ongoing)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Farsight2 and Telepathy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Integrated VOIP and videoconferencing tool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SIP, Gtalk and oth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any to man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57600" y="5257800"/>
            <a:ext cx="6335640" cy="20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630000"/>
            <a:ext cx="685656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Various New Plugin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New core and base release with improved support for interlaced media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New high quality deinterlac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New fast tag reading system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amerabi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Quicktime, MP4 and 3GPP mux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XF demuxer and mux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and Mobile Platform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LiM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P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aem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penMok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obli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86600" y="4605480"/>
            <a:ext cx="246528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Quick overview of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hat's new since last yea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Editing with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and Android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Establish easy to build setup for putting Gstreamer on Androi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ptional integration of Gst-OpenMa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rite java gluecode to link Gstreamer with existing Java multimedia APIs in a transparent mann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ropose and write new Java APIs to expose all new features available through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Editing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llabora putting a lot of effort into Gstreamer editing functionalit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entral core is the GNonLin set of editing plugi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Synergy between embedded and desktop due to Pitivi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Editing Embedded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Support basic features like cutting/trimming, adding/removing audio, simple text based introductions/credit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ossibility to use some OpenGL based effects and transitio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ore editing features available for more high end device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llabora to provide higher level helper librar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itstream Vera Serif"/>
              </a:rPr>
              <a:t>Or contact me on </a:t>
            </a:r>
            <a:r>
              <a:rPr b="0" lang="fr-FR" sz="32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christian.schaller@collabora.co.u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itstream Vera Serif"/>
              </a:rPr>
              <a:t>http://www.collabora.co.u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ultimedia Framewor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ature code bas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LGPL licensed cor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Cont.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De-facto standard for Linux system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ross Platform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idely deploye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Design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ipeline based desig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lose to 200 plugins availab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Not just playbac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Very clean and highly modula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Both high level and low level APIs availab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Licensing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Trying to make things easy and business friendl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lugins-modules: Base, Good, Bad, Ugl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re LGPL, plugins can be of any licens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decs can come from a lot of source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-OpenMax, TI DSP plugins, IPP based pugins, Codec companies like Fluendo and Entropy Wav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High level librarie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Telepathy and Farsight for VoIP and Videocon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Rygel or Coherence for UpnP/DLNA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nonlin for video editing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-RTSP-server for advanced RTSP services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Playbin2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Autoplugg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Encoded outpu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Improved HD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Improved streaming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1727280" indent="-57312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xi Sans"/>
              </a:rPr>
              <a:t>Congestion support, on-disk buffering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Decodebin2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1727280" indent="-57312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xi Sans"/>
              </a:rPr>
              <a:t>Faster, more versatile, better memory usage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RTP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laybin2 with full RTSP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RTP stack popular (Axis, Tandberg)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indows Media, Real Media, MPEG, Og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-rtsp-serv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5:26:55Z</dcterms:created>
  <dc:creator>Edward Hervey</dc:creator>
  <dc:description/>
  <dc:language>en-US</dc:language>
  <cp:lastModifiedBy>Christian Schaller</cp:lastModifiedBy>
  <dcterms:modified xsi:type="dcterms:W3CDTF">2009-04-06T14:30:24Z</dcterms:modified>
  <cp:revision>105</cp:revision>
  <dc:subject/>
  <dc:title/>
</cp:coreProperties>
</file>